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B4D-5F93-4EC4-9307-4944CD75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254-8445-4D0C-834B-E9812B8B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BBF-0EB1-4EA6-8202-5B2B0F04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413-DCAE-4292-B5AB-4E16F003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831-05FD-405B-BC74-A2EEA241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A4E-8534-4AD5-A168-F7F03CD6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E460-DEC2-474E-A64D-EDE991B3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AA1-A1C9-4632-8F02-42336051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35C-FF4D-4B87-9789-66FDB469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C39-38E6-42F0-99E3-E7FE5631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86D-F1FF-405B-85B4-78F0CE9E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737-278F-474B-AB2C-D3454EC6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99FA-570D-4E8E-A4A5-5E6902387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mmer Schoo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rsessio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istrict 6                      Operations Meeting               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67400" y="2438280"/>
            <a:ext cx="331632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bur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ma Vista &amp; May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enc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iotrop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ington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is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ra &amp;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ific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mes &amp; Vernon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edy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er School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5880" y="4724280"/>
            <a:ext cx="249732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Gate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ast 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Int’l Studie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East 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Gate 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wood AHS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er School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91320" y="4518000"/>
            <a:ext cx="28018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2a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Program Code 123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ion for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midd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 senior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s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8731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a16"/>
                </a:solidFill>
                <a:latin typeface="Arial"/>
              </a:rPr>
              <a:t>nancy.robinson @ lausd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323) 278-398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3413160"/>
            <a:ext cx="35352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ary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July 6 -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July 6 -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July 6 - August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35268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ppl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3 – April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summer.lausd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2384640" cy="263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4600" y="3846600"/>
            <a:ext cx="293832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-Ch-Ch-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286000" cy="3657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6019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er Summer School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nger Academic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 of Math in Grades 2 &amp;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r Elementary Classes 2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al Supervision Aide for second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Assistant Principal for high schools over 1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Custodial Over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er paid preparation h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2 – 5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Ar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Eligibility  for voluntary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B or BB in ELA or Math,      Final Reading or Math mark of 1,  1 on Unit 3 PWA,                          SOAR Unit 3 Comprehen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upervision A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2490840" cy="3548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ment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6 –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dial Cours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upervision A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for 150 incoming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flipH="1">
            <a:off x="6019560" y="3276720"/>
            <a:ext cx="24145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9 -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ar Pacing Plans &amp; 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P over 150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pervision A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for 1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ing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5514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30.0   Administ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270    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28.0  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29.0  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10080" y="2819520"/>
            <a:ext cx="29638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and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 and 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4120" y="3556080"/>
            <a:ext cx="32274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20:49:52Z</dcterms:created>
  <dc:creator>Ron Robinson</dc:creator>
  <dc:description/>
  <dc:language>en-US</dc:language>
  <cp:lastModifiedBy>Nancy Robinson</cp:lastModifiedBy>
  <dcterms:modified xsi:type="dcterms:W3CDTF">2009-03-10T20:37:13Z</dcterms:modified>
  <cp:revision>6</cp:revision>
  <dc:subject/>
  <dc:title>Summer School  2009</dc:title>
</cp:coreProperties>
</file>